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772400" cy="10058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73E9-0464-45F1-9B15-F918719A3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66074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82480" y="6058080"/>
            <a:ext cx="66074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D800-7042-489F-95AD-161F36EDF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824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682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C751-AA89-403E-A703-8123C4BFA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16640" y="290520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50440" y="290520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82480" y="605808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16640" y="605808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50440" y="605808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76EA-8E96-4881-87FC-C6202E20A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82480" y="2905200"/>
            <a:ext cx="6607440" cy="60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BC5B-08A8-42D4-AE7A-4981D973B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660744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0C26-1C8B-4526-B73F-C3885EC4F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C374-1165-4E3D-B724-47E38E558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2B58-0819-445A-A6C1-AFA9CE36E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82480" y="893880"/>
            <a:ext cx="6607440" cy="77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1DB6-2715-4448-B73D-250C4CADE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824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F360-88BD-4C79-AEAD-E379BC89F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682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BF8B-1E00-49CB-8B96-8331B2DB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82480" y="6058080"/>
            <a:ext cx="66074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F43E-BF8F-408B-A336-8FF821EAC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2480" y="2905200"/>
            <a:ext cx="660744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82480" y="9164160"/>
            <a:ext cx="16192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55720" y="9164160"/>
            <a:ext cx="246096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570640" y="9164160"/>
            <a:ext cx="16192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1ECA9-E205-4265-A22E-3E6312D6F7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6705720"/>
            <a:ext cx="7162560" cy="3047760"/>
          </a:xfrm>
          <a:prstGeom prst="roundRect">
            <a:avLst>
              <a:gd name="adj" fmla="val 2704"/>
            </a:avLst>
          </a:prstGeom>
          <a:solidFill>
            <a:srgbClr val="fff8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8763120"/>
            <a:ext cx="7010640" cy="685800"/>
          </a:xfrm>
          <a:prstGeom prst="roundRect">
            <a:avLst>
              <a:gd name="adj" fmla="val 2704"/>
            </a:avLst>
          </a:prstGeom>
          <a:solidFill>
            <a:srgbClr val="ffe2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7620120"/>
            <a:ext cx="3429000" cy="1066680"/>
          </a:xfrm>
          <a:prstGeom prst="roundRect">
            <a:avLst>
              <a:gd name="adj" fmla="val 2704"/>
            </a:avLst>
          </a:prstGeom>
          <a:solidFill>
            <a:srgbClr val="ffe2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600200" y="501480"/>
            <a:ext cx="4572000" cy="4159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243440" y="4952880"/>
            <a:ext cx="53028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y 11-13,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ional Evolutionary Synthesis Center (NESC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rham, North Carolina, U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7400"/>
                </a:solidFill>
                <a:latin typeface="Arial"/>
              </a:rPr>
              <a:t>http://gmod.org/GMOD_Summer_Sch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86200" y="7696080"/>
            <a:ext cx="3505320" cy="990720"/>
          </a:xfrm>
          <a:prstGeom prst="roundRect">
            <a:avLst>
              <a:gd name="adj" fmla="val 2704"/>
            </a:avLst>
          </a:prstGeom>
          <a:solidFill>
            <a:srgbClr val="ffe2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86200" y="7620120"/>
            <a:ext cx="3505320" cy="274680"/>
          </a:xfrm>
          <a:prstGeom prst="roundRect">
            <a:avLst>
              <a:gd name="adj" fmla="val 10120"/>
            </a:avLst>
          </a:prstGeom>
          <a:solidFill>
            <a:srgbClr val="ff9c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7620120"/>
            <a:ext cx="3429000" cy="274680"/>
          </a:xfrm>
          <a:prstGeom prst="roundRect">
            <a:avLst>
              <a:gd name="adj" fmla="val 10120"/>
            </a:avLst>
          </a:prstGeom>
          <a:solidFill>
            <a:srgbClr val="ff9c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7620120"/>
            <a:ext cx="3429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mplementation Track, July 11-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and a half days of hands on training for new GMOD users on installing and using GMOD tools such as GBrowse, Apollo, CMap, Chado, and the Community Annotation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7620120"/>
            <a:ext cx="3505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ncipal Investigator Track, July 12-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verview of what needs GMOD can address, how the GMOD community operates, and what resources are needed to implement GMOD tools.  For those who are considering using GM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8763120"/>
            <a:ext cx="7010640" cy="274680"/>
          </a:xfrm>
          <a:prstGeom prst="roundRect">
            <a:avLst>
              <a:gd name="adj" fmla="val 10120"/>
            </a:avLst>
          </a:prstGeom>
          <a:solidFill>
            <a:srgbClr val="ff7e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9448920"/>
            <a:ext cx="7238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? Contact the GMOD Help Desk &lt;help@gmod.org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876312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urse is free but enrollment is limited.  To apply please submit a Statement of Interest, available from the GMOD web site.  Applications will be reviewed April 1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304920"/>
            <a:ext cx="7162560" cy="9448560"/>
          </a:xfrm>
          <a:custGeom>
            <a:avLst/>
            <a:gdLst>
              <a:gd name="textAreaLeft" fmla="*/ 25200 w 7162560"/>
              <a:gd name="textAreaRight" fmla="*/ 7137360 w 7162560"/>
              <a:gd name="textAreaTop" fmla="*/ 25200 h 9448560"/>
              <a:gd name="textAreaBottom" fmla="*/ 9423360 h 9448560"/>
            </a:gdLst>
            <a:ahLst/>
            <a:rect l="textAreaLeft" t="textAreaTop" r="textAreaRight" b="textAreaBottom"/>
            <a:pathLst>
              <a:path w="21600" h="28494">
                <a:moveTo>
                  <a:pt x="263" y="0"/>
                </a:moveTo>
                <a:arcTo wR="263" hR="263" stAng="16200000" swAng="-5400000"/>
                <a:lnTo>
                  <a:pt x="0" y="28231"/>
                </a:lnTo>
                <a:arcTo wR="263" hR="263" stAng="10800000" swAng="-5400000"/>
                <a:lnTo>
                  <a:pt x="21337" y="28494"/>
                </a:lnTo>
                <a:arcTo wR="263" hR="263" stAng="5400000" swAng="-5400000"/>
                <a:lnTo>
                  <a:pt x="21600" y="263"/>
                </a:lnTo>
                <a:arcTo wR="263" hR="263" stAng="0" swAng="-5400000"/>
                <a:close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6858000"/>
            <a:ext cx="7010640" cy="685800"/>
          </a:xfrm>
          <a:prstGeom prst="roundRect">
            <a:avLst>
              <a:gd name="adj" fmla="val 2704"/>
            </a:avLst>
          </a:prstGeom>
          <a:solidFill>
            <a:srgbClr val="ffe2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6781680"/>
            <a:ext cx="7010640" cy="304920"/>
          </a:xfrm>
          <a:prstGeom prst="roundRect">
            <a:avLst>
              <a:gd name="adj" fmla="val 10120"/>
            </a:avLst>
          </a:prstGeom>
          <a:solidFill>
            <a:srgbClr val="ffbc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678168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M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MOD is a set of interoperable open source software tools for visualizing, managing and annotating genomic data. If you need to manage genomic data, consider attending this course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7T22:07:12Z</dcterms:created>
  <dc:creator>GMOD / NESCent</dc:creator>
  <dc:description/>
  <dc:language>en-US</dc:language>
  <cp:lastModifiedBy>GMOD / NESCent</cp:lastModifiedBy>
  <cp:lastPrinted>2008-03-08T00:46:14Z</cp:lastPrinted>
  <dcterms:modified xsi:type="dcterms:W3CDTF">2008-03-10T16:26:49Z</dcterms:modified>
  <cp:revision>12</cp:revision>
  <dc:subject/>
  <dc:title>PowerPoint Presentation</dc:title>
</cp:coreProperties>
</file>